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06F-8334-4C46-8051-D8161635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313-E2CB-434E-9E90-7452AAAF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676-2023-4D72-B576-139A5231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2FC-7495-4A4E-B5FF-FCC74FFB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371-B7FB-4E18-9FC6-BED10CD0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304-55CC-42AE-B805-DD696DE8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B06E-3BC0-4AD5-A859-D256AB17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CB1-E484-4AE7-B0CF-F515CADD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BEA-8D53-47DE-B2C6-D97079ED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0D5-9762-4B84-BBC8-DDB66C48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22A-F1EE-4D95-A6DB-880166E3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62C9-96F6-4F1B-97E6-55D0D614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71A8-7292-4C21-AE06-C43480D36FD1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orbidden 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Sophie Rober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g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45" name="Oval 4"/>
          <p:cNvSpPr/>
          <p:nvPr/>
        </p:nvSpPr>
        <p:spPr>
          <a:xfrm>
            <a:off x="928800" y="1571760"/>
            <a:ext cx="357120" cy="3571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5000760" y="1357200"/>
            <a:ext cx="392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of all I drew a square using the rectangle tool. This is outlined in the blue circle. This is going to be my base. Later on I will add colour this shape. Then to make the water line in a curve I used the arc tool which is outlined in the red circle. I will keep going with the curved water line and to make the entrance to the city I will use a straight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/>
          <p:cNvSpPr/>
          <p:nvPr/>
        </p:nvSpPr>
        <p:spPr>
          <a:xfrm>
            <a:off x="714240" y="1571760"/>
            <a:ext cx="214560" cy="285480"/>
          </a:xfrm>
          <a:prstGeom prst="ellipse">
            <a:avLst/>
          </a:prstGeom>
          <a:noFill/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5018040" cy="3762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429160" y="1428840"/>
            <a:ext cx="3429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when I have added colour and height to my base. To add colour to my base and water I used the paint tool which is in the red circle. To add height to the the base I used the push/pull tool which is in the blue circle. I have also made the base and water bigger by using the push/pull tool which is outlined in the blue circle. To extend the water I used the move/copy tool outlined in the yellow cir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1785960" y="1643040"/>
            <a:ext cx="214200" cy="214200"/>
          </a:xfrm>
          <a:prstGeom prst="ellipse">
            <a:avLst/>
          </a:prstGeom>
          <a:noFill/>
          <a:ln w="316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1571760" y="1643040"/>
            <a:ext cx="214200" cy="214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1928880" y="1643040"/>
            <a:ext cx="214200" cy="21420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g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572080" y="1571760"/>
            <a:ext cx="3357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picture I have made my base bigger so that I can fit more on  It. I have also added the River of Golden Water down the middle.  The Golden River had five bridges of marble down it. The emperor only used the middle bridge.  I will make the bridges at a later stage when I have found the skill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490536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ge 4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42960" y="150012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5786280" y="150012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stage I have added some stairs to the ent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3:13:33Z</dcterms:created>
  <dc:creator>Diocesan School for Girls</dc:creator>
  <dc:description/>
  <dc:language>en-US</dc:language>
  <cp:lastModifiedBy>Diocesan School for Girls</cp:lastModifiedBy>
  <dcterms:modified xsi:type="dcterms:W3CDTF">2009-08-30T23:09:33Z</dcterms:modified>
  <cp:revision>19</cp:revision>
  <dc:subject/>
  <dc:title>Slide 1</dc:title>
</cp:coreProperties>
</file>